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3FC-64FA-46B8-8BDA-0C5BB6CC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1CE-27A5-466F-BAD5-ED8788B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EF5-A288-439B-9A98-CB39AB99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E8A-D196-4FE3-AEB8-ECB26BA4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310-B0E6-4C59-B431-935319D7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A9D-662F-448B-849F-ED7B45E6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9AC-7504-409B-8DEC-ED67B162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847-B3E4-41F8-B09B-F3AEBCC0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8AF-BB48-4574-BEB4-ED216A01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95A-0A44-4CD9-8F12-F5394AC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01B-B12A-41AE-9104-416618D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CCB-37A6-4BB8-868F-EBDC03B8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660720"/>
            <a:ext cx="304200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660720"/>
            <a:ext cx="2241360" cy="507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00A3B-0CD4-4B1A-8847-39E25EA0706D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0200" y="3738600"/>
            <a:ext cx="1760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00600" y="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9601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-1440" y="3960"/>
            <a:ext cx="32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9280080" y="216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80440" y="6924600"/>
            <a:ext cx="320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3819600"/>
            <a:ext cx="2800440" cy="1405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Desire and trouble are two branches of the same tre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- Welsh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60800" y="3902040"/>
            <a:ext cx="400068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People wh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Gigi"/>
              </a:rPr>
              <a:t>lov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each other, tell each other a thousand things without saying 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Papyrus"/>
              </a:rPr>
              <a:t>word</a:t>
            </a:r>
            <a:r>
              <a:rPr b="0" lang="en-US" sz="2500" spc="-1" strike="noStrike">
                <a:solidFill>
                  <a:srgbClr val="000000"/>
                </a:solidFill>
                <a:latin typeface="Papyru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~ Cambodian prover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21760" y="4226040"/>
            <a:ext cx="1039680" cy="1137960"/>
          </a:xfrm>
          <a:prstGeom prst="cloudCallout">
            <a:avLst>
              <a:gd name="adj1" fmla="val -11537"/>
              <a:gd name="adj2" fmla="val 107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5943600"/>
            <a:ext cx="1336680" cy="12193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80520" y="4470480"/>
            <a:ext cx="720720" cy="568080"/>
          </a:xfrm>
          <a:custGeom>
            <a:avLst/>
            <a:gdLst>
              <a:gd name="textAreaLeft" fmla="*/ 169200 w 720720"/>
              <a:gd name="textAreaRight" fmla="*/ 550800 w 720720"/>
              <a:gd name="textAreaTop" fmla="*/ 66600 h 568080"/>
              <a:gd name="textAreaBottom" fmla="*/ 356400 h 56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756400"/>
            <a:ext cx="40006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Monotype Corsiva"/>
              </a:rPr>
              <a:t>To love someone who does not love you, is like shaking a tree to make the dew drops fall. </a:t>
            </a:r>
            <a:br>
              <a:rPr sz="25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Bradley Hand ITC"/>
              </a:rPr>
              <a:t>~ Congolese Prove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052000">
            <a:off x="7140960" y="692640"/>
            <a:ext cx="1776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If there is something you want, but you can’t have, find a way to get it, or find a way to get over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sto MT"/>
              </a:rPr>
              <a:t>~ African prover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040000" y="637200"/>
            <a:ext cx="1606680" cy="256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If you can’t be with the one you love, love the one you’re w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바탕"/>
              </a:rPr>
              <a:t>~ Stephen St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400640" cy="98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7924680" y="-360"/>
            <a:ext cx="1395360" cy="136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0800000">
            <a:off x="399960" y="1463040"/>
            <a:ext cx="40197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Love &amp;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Relationship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3:11:21Z</dcterms:created>
  <dc:creator>nsmith</dc:creator>
  <dc:description/>
  <dc:language>en-US</dc:language>
  <cp:lastModifiedBy>nsmith</cp:lastModifiedBy>
  <dcterms:modified xsi:type="dcterms:W3CDTF">2010-04-15T13:51:5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